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embeddings/oleObject4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35.wmf" ContentType="image/x-wmf"/>
  <Override PartName="/ppt/media/image37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45.png" ContentType="image/png"/>
  <Override PartName="/ppt/media/image46.wmf" ContentType="image/x-wmf"/>
  <Override PartName="/ppt/media/image47.png" ContentType="image/png"/>
  <Override PartName="/ppt/media/image8.wmf" ContentType="image/x-wmf"/>
  <Override PartName="/ppt/media/image38.wmf" ContentType="image/x-wmf"/>
  <Override PartName="/ppt/media/image51.png" ContentType="image/png"/>
  <Override PartName="/ppt/media/image12.png" ContentType="image/png"/>
  <Override PartName="/ppt/media/image49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40.wmf" ContentType="image/x-wmf"/>
  <Override PartName="/ppt/media/image7.png" ContentType="image/png"/>
  <Override PartName="/ppt/media/image42.wmf" ContentType="image/x-wmf"/>
  <Override PartName="/ppt/media/image39.png" ContentType="image/png"/>
  <Override PartName="/ppt/media/image9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BF6-BC66-4E2D-ADEA-03C4F4B3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BE2-6184-4CA4-8812-7DEC9A0E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A1F-41DC-446C-9D23-6C667D79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EA6-5686-47EB-B92B-9E49E82A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DC9-1CD9-48D5-B3B3-2D3F1B04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D23-CB49-44E9-A491-8C7D1C6E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497-933A-41F9-8DAB-AC7F7D9B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C23-9972-430E-9A5C-FF93512E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7CC-4B58-449D-8B86-962F13EF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FB5-517B-491D-BE1C-9371BA80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BEF-9F4A-46D8-B756-17A12883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D1F-3774-461B-A3DA-10AEB171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18FB-8789-4B7C-8A6A-CA082279E0D7}" type="slidenum"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9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image" Target="../media/image5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523880"/>
            <a:ext cx="77724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POLITECNICO DI MILANO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Facoltà di Ingegneria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orso di Laurea in Ingegneria per l’Ambiente e il Territorio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3048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DINAMICA DEMOGRAFICA E PREZZI IMMOBILIARI NELLA PROVINCIA DI MILANO: UN MODELLO DI AUTOMI CELLULARI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7242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Relatore:  Prof. Giorgio GUARISO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472428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Presentazione di: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imes New Roman"/>
              </a:rPr>
              <a:t>Serena CAJA                  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imes New Roman"/>
              </a:rPr>
              <a:t>Raffaella CISLAGH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624852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Times New Roman"/>
              </a:rPr>
              <a:t>Anno Accademico 1998/99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86200" y="0"/>
          <a:ext cx="149400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14940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TARATURA DELLE REGOLE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18288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3257280"/>
            <a:ext cx="289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Symbol"/>
                <a:ea typeface="Symbol"/>
              </a:rPr>
              <a:t></a:t>
            </a:r>
            <a:r>
              <a:rPr b="1" lang="en-US" sz="1800" spc="-1" strike="noStrike" baseline="-25000">
                <a:solidFill>
                  <a:srgbClr val="66ff66"/>
                </a:solidFill>
                <a:latin typeface="Times New Roman"/>
              </a:rPr>
              <a:t>t </a:t>
            </a:r>
            <a:r>
              <a:rPr b="1" lang="en-US" sz="1800" spc="-1" strike="noStrike">
                <a:solidFill>
                  <a:srgbClr val="66ff66"/>
                </a:solidFill>
                <a:latin typeface="Times New Roman"/>
              </a:rPr>
              <a:t>[ reale </a:t>
            </a:r>
            <a:r>
              <a:rPr b="1" lang="en-US" sz="1800" spc="-1" strike="noStrike" baseline="-25000">
                <a:solidFill>
                  <a:srgbClr val="66ff66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66ff66"/>
                </a:solidFill>
                <a:latin typeface="Times New Roman"/>
              </a:rPr>
              <a:t> - simulato </a:t>
            </a:r>
            <a:r>
              <a:rPr b="1" lang="en-US" sz="1800" spc="-1" strike="noStrike" baseline="-25000">
                <a:solidFill>
                  <a:srgbClr val="66ff66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1" lang="en-US" sz="1800" spc="-1" strike="noStrike" baseline="30000">
                <a:solidFill>
                  <a:srgbClr val="66ff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3257280"/>
            <a:ext cx="2210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ff66"/>
                </a:solidFill>
                <a:latin typeface="Times New Roman"/>
              </a:rPr>
              <a:t>indicatore</a:t>
            </a:r>
            <a:r>
              <a:rPr b="1" lang="en-US" sz="1800" spc="-1" strike="noStrike" baseline="-25000">
                <a:solidFill>
                  <a:srgbClr val="66ff66"/>
                </a:solidFill>
                <a:latin typeface="Times New Roman"/>
              </a:rPr>
              <a:t> i , j </a:t>
            </a:r>
            <a:r>
              <a:rPr b="1" lang="en-US" sz="1800" spc="-1" strike="noStrike">
                <a:solidFill>
                  <a:srgbClr val="66ff66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895480" cy="2408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1066320" y="649044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iterio CASO PEGGIORE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5160" y="64904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iterio MEDIA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44360" y="28947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imes New Roman"/>
              </a:rPr>
              <a:t>Per ogni stato i  e settore j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0" y="3962520"/>
          <a:ext cx="4343400" cy="243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962520"/>
                    <a:ext cx="434340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572000" y="533520"/>
          <a:ext cx="4419720" cy="2361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33520"/>
                    <a:ext cx="44197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228600" y="3962520"/>
          <a:ext cx="4267080" cy="2427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3962520"/>
                    <a:ext cx="4267080" cy="24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2975400" y="40381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terministica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9600" y="495252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non deterministica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1440" y="5562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reale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-152280" y="662040"/>
            <a:ext cx="4876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SETTORE EST - OVEST 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stato5</a:t>
            </a:r>
            <a:r>
              <a:rPr b="0" lang="en-US" sz="1600" spc="-1" strike="noStrike">
                <a:solidFill>
                  <a:srgbClr val="66ff66"/>
                </a:solidFill>
                <a:latin typeface="Times New Roman"/>
              </a:rPr>
              <a:t> = crescita demografica - prezzi bassi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[       ]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914400"/>
            <a:ext cx="228600" cy="152280"/>
          </a:xfrm>
          <a:prstGeom prst="rect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920" y="25142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e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105520" y="2666880"/>
          <a:ext cx="2514600" cy="123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05520" y="2666880"/>
                    <a:ext cx="251460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869800" y="25142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ta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96720"/>
            <a:ext cx="78483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SIMULAZIONE  AC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espansione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Caso deterministico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4570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SCENARIO INIZIAL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5545800"/>
            <a:ext cx="205740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5710320"/>
            <a:ext cx="24382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5880" y="5710320"/>
            <a:ext cx="31244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280" y="5562720"/>
          <a:ext cx="57636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562720"/>
                    <a:ext cx="5763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666880" y="5562720"/>
          <a:ext cx="5763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5562720"/>
                    <a:ext cx="5763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5486400" y="5562720"/>
          <a:ext cx="571680" cy="105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5562720"/>
                    <a:ext cx="57168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304920" y="1600200"/>
            <a:ext cx="3429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396720"/>
            <a:ext cx="78483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SIMULAZIONE  AC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espansione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Caso deterministico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449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SCENARIO INIZIAL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94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SCENARIO FINAL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5808240"/>
            <a:ext cx="1524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5808240"/>
            <a:ext cx="21337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5808240"/>
            <a:ext cx="274320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28600" y="5562720"/>
          <a:ext cx="57636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562720"/>
                    <a:ext cx="5763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2819520" y="5562720"/>
          <a:ext cx="57600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5562720"/>
                    <a:ext cx="57600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791320" y="5562720"/>
          <a:ext cx="571320" cy="105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5562720"/>
                    <a:ext cx="5713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605520" y="5710320"/>
            <a:ext cx="21193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19400" y="5710320"/>
            <a:ext cx="26100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20800" y="5710320"/>
            <a:ext cx="29286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838080" y="1523880"/>
            <a:ext cx="3429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25" name="" descr=""/>
          <p:cNvPicPr/>
          <p:nvPr/>
        </p:nvPicPr>
        <p:blipFill>
          <a:blip r:embed="rId8"/>
          <a:stretch/>
        </p:blipFill>
        <p:spPr>
          <a:xfrm>
            <a:off x="4876920" y="1523880"/>
            <a:ext cx="3429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RISULTATI SIMULAZIONE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AC espansione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87624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10962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ETTORE EST - OVEST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95680" y="10962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ETTORE SUD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64040" y="1371240"/>
            <a:ext cx="36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Times New Roman"/>
              </a:rPr>
              <a:t>Stato6: crescita demografica - prezzi medi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12840" y="3809520"/>
            <a:ext cx="40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Times New Roman"/>
              </a:rPr>
              <a:t>Stato8: forte crescita demografica - prezzi bassi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648320" y="1676520"/>
          <a:ext cx="425916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59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648320" y="4114800"/>
          <a:ext cx="4278240" cy="213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42782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543960" y="137124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Times New Roman"/>
              </a:rPr>
              <a:t>Stato5: crescita demografica - prezzi bassi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3809520"/>
            <a:ext cx="36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Times New Roman"/>
              </a:rPr>
              <a:t>Stato6: crescita demografica - prezzi medi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04920" y="1676520"/>
          <a:ext cx="4209840" cy="2047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676520"/>
                    <a:ext cx="420984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04920" y="4114800"/>
          <a:ext cx="4209840" cy="2133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114800"/>
                    <a:ext cx="4209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80880" y="6324480"/>
          <a:ext cx="843300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324480"/>
                    <a:ext cx="8433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1143000" y="624816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e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02000" y="6248160"/>
            <a:ext cx="27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zione non deterministica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26000" y="6248160"/>
            <a:ext cx="23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zione deterministica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096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ETTORE NORD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05520" y="1096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ETTORE MILANO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RISULTATI SIMULAZIONE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AC espansione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90120" y="144756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Times New Roman"/>
              </a:rPr>
              <a:t>Stato3: calo demografico - prezzi medi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724280" y="1828800"/>
          <a:ext cx="415476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828800"/>
                    <a:ext cx="415476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4191120"/>
          <a:ext cx="4162680" cy="196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191120"/>
                    <a:ext cx="416268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5190480" y="3885840"/>
            <a:ext cx="31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Times New Roman"/>
              </a:rPr>
              <a:t>Stato4: calo demografico - prezzi alti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2560" y="144756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Times New Roman"/>
              </a:rPr>
              <a:t>Stato5: crescita demografica - prezzi bassi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3280" y="3885840"/>
            <a:ext cx="36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Times New Roman"/>
              </a:rPr>
              <a:t>Stato6: crescita demografica - prezzi medi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80880" y="1846440"/>
          <a:ext cx="4114800" cy="1982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1846440"/>
                    <a:ext cx="411480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380880" y="4191120"/>
          <a:ext cx="4057920" cy="1962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191120"/>
                    <a:ext cx="405792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80880" y="6324480"/>
          <a:ext cx="843300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324480"/>
                    <a:ext cx="8433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297080" y="624816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e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01960" y="6248160"/>
            <a:ext cx="23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zione deterministica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02000" y="6248160"/>
            <a:ext cx="27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zione non deterministica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04920"/>
            <a:ext cx="87026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152280"/>
            <a:ext cx="8702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SCENARI FUTURI: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osservazioni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81480" y="5917680"/>
            <a:ext cx="373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05520" y="911880"/>
            <a:ext cx="33526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VARIAZIONI PERCENTUALI 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DELLA POPOLAZIONE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5463720"/>
            <a:ext cx="44226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IPOTESI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permanenza dei comportamenti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preannunciati nell’ultimo triennio ‘96-’98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5709600"/>
            <a:ext cx="30481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IDEA: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mbio degli identificatori 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di tipo di espansione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0120" y="5637600"/>
            <a:ext cx="13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AUTOMI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IN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CASCATA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04920" y="1752480"/>
          <a:ext cx="4259160" cy="28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425916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 flipV="1">
            <a:off x="3657600" y="190476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4304520" y="5902920"/>
            <a:ext cx="380880" cy="30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7352280" y="5979240"/>
            <a:ext cx="380880" cy="30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0040" y="684720"/>
            <a:ext cx="36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IMULAZIONE AC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espansione 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ETTORE MILANO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6320" y="13708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Stato4 = calo demografico - prezzi 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81240" y="4708440"/>
            <a:ext cx="18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4724280"/>
          <a:ext cx="41148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724280"/>
                    <a:ext cx="4114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1377720" y="5181120"/>
            <a:ext cx="27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zione non deterministica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78080" y="4876560"/>
            <a:ext cx="23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zione deterministica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4632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e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724280" y="1828800"/>
          <a:ext cx="4249800" cy="2241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828800"/>
                    <a:ext cx="424980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101200" y="1508760"/>
            <a:ext cx="335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[(Abitanti(t+1)-Abitanti(t))/Abitanti(t)]x100</a:t>
            </a:r>
            <a:endParaRPr b="0" lang="en-US" sz="1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800600" y="4191120"/>
          <a:ext cx="29624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4191120"/>
                    <a:ext cx="29624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5630760" y="4113720"/>
            <a:ext cx="21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6 comuni della provincia</a:t>
            </a:r>
            <a:endParaRPr b="0" lang="en-US" sz="1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37240" y="434232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lano</a:t>
            </a:r>
            <a:endParaRPr b="0" lang="en-US" sz="14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28600" y="-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UTOMI CELLULARI IN CASCATA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913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AC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espansion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91120" y="9896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4 set di regole tarati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1447920"/>
            <a:ext cx="609840" cy="457200"/>
          </a:xfrm>
          <a:prstGeom prst="flowChartInputOutpu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15000" y="1447920"/>
            <a:ext cx="457200" cy="457200"/>
          </a:xfrm>
          <a:prstGeom prst="flowChartInputOutpu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15991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Reale 1980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800" y="1599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imulato 1995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86400" y="41911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4798080"/>
            <a:ext cx="45720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2 set di regole tarate per i comportamenti già  registrati in passato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2 set di regole a buon senso per i comportamenti solo anticipati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5638680"/>
            <a:ext cx="609840" cy="533520"/>
          </a:xfrm>
          <a:prstGeom prst="flowChartInputOutpu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61711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imulato 1995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33720" y="617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Futuro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638680"/>
            <a:ext cx="609480" cy="533520"/>
          </a:xfrm>
          <a:prstGeom prst="flowChartInputOutpu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00400" y="1752480"/>
            <a:ext cx="2057400" cy="0"/>
          </a:xfrm>
          <a:prstGeom prst="line">
            <a:avLst/>
          </a:prstGeom>
          <a:ln w="9360">
            <a:solidFill>
              <a:srgbClr val="66ff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5867280"/>
            <a:ext cx="990720" cy="0"/>
          </a:xfrm>
          <a:prstGeom prst="line">
            <a:avLst/>
          </a:prstGeom>
          <a:ln w="9360">
            <a:solidFill>
              <a:srgbClr val="66ff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1066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479952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66"/>
                </a:solidFill>
                <a:latin typeface="Times New Roman"/>
              </a:rPr>
              <a:t>AC implosion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49528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3892680" y="5174280"/>
            <a:ext cx="533520" cy="547560"/>
          </a:xfrm>
          <a:custGeom>
            <a:avLst/>
            <a:gdLst>
              <a:gd name="textAreaLeft" fmla="*/ 177840 w 533520"/>
              <a:gd name="textAreaRight" fmla="*/ 457200 w 533520"/>
              <a:gd name="textAreaTop" fmla="*/ 315360 h 547560"/>
              <a:gd name="textAreaBottom" fmla="*/ 469080 h 547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914400"/>
            <a:ext cx="7619760" cy="114300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4800600"/>
            <a:ext cx="8610480" cy="182880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5760" y="2208600"/>
            <a:ext cx="62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66"/>
                </a:solidFill>
                <a:latin typeface="Times New Roman"/>
              </a:rPr>
              <a:t>Transizione : ID espansione        ID implosion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23623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560" y="2818800"/>
            <a:ext cx="15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AC espansione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09560" y="289512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66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66"/>
                </a:solidFill>
                <a:latin typeface="Times New Roman"/>
              </a:rPr>
              <a:t>AC implosione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981080" y="2743200"/>
          <a:ext cx="213372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213372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0" y="2209680"/>
            <a:ext cx="9144000" cy="243864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4648320" y="2743200"/>
          <a:ext cx="2133360" cy="17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743200"/>
                    <a:ext cx="213336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 rot="10800000">
            <a:off x="2057400" y="2666520"/>
            <a:ext cx="914400" cy="366840"/>
          </a:xfrm>
          <a:custGeom>
            <a:avLst/>
            <a:gdLst>
              <a:gd name="textAreaLeft" fmla="*/ 159840 w 914400"/>
              <a:gd name="textAreaRight" fmla="*/ 663120 w 914400"/>
              <a:gd name="textAreaTop" fmla="*/ 48960 h 366840"/>
              <a:gd name="textAreaBottom" fmla="*/ 31788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00400" y="274320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3352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05120" y="3276720"/>
            <a:ext cx="380880" cy="1143000"/>
          </a:xfrm>
          <a:custGeom>
            <a:avLst/>
            <a:gdLst>
              <a:gd name="textAreaLeft" fmla="*/ 50760 w 380880"/>
              <a:gd name="textAreaRight" fmla="*/ 330120 w 3808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376200"/>
            <a:ext cx="78483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IMULAZIONE  AC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implosione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Caso deterministico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4494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SCENARIO INIZIAL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28600" y="5562720"/>
          <a:ext cx="57636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562720"/>
                    <a:ext cx="5763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529560" y="5710320"/>
            <a:ext cx="21193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819520" y="5562720"/>
          <a:ext cx="57600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5562720"/>
                    <a:ext cx="57600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3196080" y="5710320"/>
            <a:ext cx="25520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5715000" y="5562720"/>
          <a:ext cx="571680" cy="105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5562720"/>
                    <a:ext cx="57168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6278400" y="5634000"/>
            <a:ext cx="2870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762120" y="1600200"/>
          <a:ext cx="3352680" cy="280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1600200"/>
                    <a:ext cx="3352680" cy="2803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76200"/>
            <a:ext cx="78483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IMULAZIONE  AC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implosione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Caso deterministico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8080" y="441864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SCENARIO INIZIAL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41864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SCENARIO FINAL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28600" y="5562720"/>
          <a:ext cx="57636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562720"/>
                    <a:ext cx="5763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605520" y="5710320"/>
            <a:ext cx="21193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819520" y="5562720"/>
          <a:ext cx="57600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5562720"/>
                    <a:ext cx="57600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3119760" y="5710320"/>
            <a:ext cx="25520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5638680" y="5562720"/>
          <a:ext cx="571680" cy="105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5562720"/>
                    <a:ext cx="57168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6220800" y="5710320"/>
            <a:ext cx="29286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952880" y="1447920"/>
            <a:ext cx="3353040" cy="279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464" name=""/>
          <p:cNvGraphicFramePr/>
          <p:nvPr/>
        </p:nvGraphicFramePr>
        <p:xfrm>
          <a:off x="838080" y="1447920"/>
          <a:ext cx="3353040" cy="2803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1447920"/>
                    <a:ext cx="3353040" cy="2803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AC </a:t>
            </a: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espansione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66ff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 Soddisfacent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AC</a:t>
            </a: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 implosione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66ff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Carattere esplorativo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2270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OSSIBILI SVILUPPI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3276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Migliorare AC </a:t>
            </a: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implosione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con informazione più recent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  <a:p>
            <a:pPr marL="205560" indent="-205560">
              <a:spcBef>
                <a:spcPts val="601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Rendere graduale il passaggio da un settore all’altro attraverso regole con frequenze variabili nello spazio in modo opportuno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  <a:p>
            <a:pPr marL="205560" indent="-205560">
              <a:spcBef>
                <a:spcPts val="601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Rendere automatico il passaggio tra i diversi AC in cascata in base a condizioni definite sulla prevalenza degli stati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066680"/>
            <a:ext cx="80010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ff66"/>
                </a:solidFill>
                <a:uFillTx/>
                <a:latin typeface="Times New Roman"/>
              </a:rPr>
              <a:t>Simulare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la dinamica demografica e le variazioni del mercato immobiliare nella provincia di Milano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ff66"/>
                </a:solidFill>
                <a:uFillTx/>
                <a:latin typeface="Times New Roman"/>
              </a:rPr>
              <a:t>Esplorare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possibili comportamenti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uturi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8534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Times New Roman"/>
              </a:rPr>
              <a:t>OBIETTIVI</a:t>
            </a:r>
            <a:endParaRPr b="0" lang="en-US" sz="4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429000"/>
            <a:ext cx="8169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Times New Roman"/>
              </a:rPr>
              <a:t>STRUMENTI</a:t>
            </a:r>
            <a:endParaRPr b="0" lang="en-US" sz="3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343400"/>
            <a:ext cx="800100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Modello basato sugli AC sviluppato con il software AUGH2!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(Automi Urbani Generalizzati con Help in linea)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9425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IUAV -  Laboratorio STRATEMA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870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REA DI STUDIO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pic>
        <p:nvPicPr>
          <p:cNvPr id="55" name="lombardia" descr=""/>
          <p:cNvPicPr/>
          <p:nvPr/>
        </p:nvPicPr>
        <p:blipFill>
          <a:blip r:embed="rId1"/>
          <a:stretch/>
        </p:blipFill>
        <p:spPr>
          <a:xfrm>
            <a:off x="5867280" y="838080"/>
            <a:ext cx="2971800" cy="2768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24080" y="1371600"/>
            <a:ext cx="2362320" cy="193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28600" y="1437120"/>
            <a:ext cx="3124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Densità media provinciale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2000 ab/kmq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Densità Milano centro   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15.000 ab/kmq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81080"/>
            <a:ext cx="914400" cy="83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83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187 comun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656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ACCOLTA DATI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Dati demografici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09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Dati economici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4876920"/>
            <a:ext cx="38088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5715000"/>
            <a:ext cx="38088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4266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popolazione residente 186 comuni : ISTAT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180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prezzi di compravendita : CARIPLO, CAAM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562720" y="24382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4495680"/>
            <a:ext cx="76320" cy="63360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3600"/>
              <a:gd name="textAreaBottom" fmla="*/ 607320 h 6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5410080"/>
            <a:ext cx="76320" cy="63360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3600"/>
              <a:gd name="textAreaBottom" fmla="*/ 607320 h 6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30400" y="479952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popolazione residente Milano : ANAGRAF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58960" y="5713920"/>
            <a:ext cx="37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tassi di inflazione : ISTAT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41760" y="61711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Arco temporale : 1979 - 1998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09680" y="-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NALISI DEL FENOMENO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7328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Per settori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36252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ITERI DI DISAGGREGAZIONE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8880" y="578160"/>
            <a:ext cx="38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Curva cumulata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delle variazioni demografich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486000" cy="925560"/>
          </a:xfrm>
          <a:prstGeom prst="downArrow">
            <a:avLst>
              <a:gd name="adj1" fmla="val 50000"/>
              <a:gd name="adj2" fmla="val 47611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1520" y="22849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IPOTESI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79840" y="2742120"/>
            <a:ext cx="35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Provincia = Sistema chiuso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181480" y="4191120"/>
          <a:ext cx="300528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191120"/>
                    <a:ext cx="300528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617160" y="37328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Per coron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4191120"/>
          <a:ext cx="2971800" cy="24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297180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rot="13200000">
            <a:off x="4030200" y="4205160"/>
            <a:ext cx="671760" cy="587520"/>
          </a:xfrm>
          <a:custGeom>
            <a:avLst/>
            <a:gdLst>
              <a:gd name="textAreaLeft" fmla="*/ 192600 w 671760"/>
              <a:gd name="textAreaRight" fmla="*/ 575640 w 671760"/>
              <a:gd name="textAreaTop" fmla="*/ 338400 h 587520"/>
              <a:gd name="textAreaBottom" fmla="*/ 50328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" y="685800"/>
          <a:ext cx="4724280" cy="2649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685800"/>
                    <a:ext cx="47242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371600" y="2819520"/>
          <a:ext cx="2962440" cy="39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819520"/>
                    <a:ext cx="29624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125800" y="2742120"/>
            <a:ext cx="21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6 comuni della provincia</a:t>
            </a:r>
            <a:endParaRPr b="0" lang="en-US" sz="1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1920" y="297072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lano</a:t>
            </a:r>
            <a:endParaRPr b="0" lang="en-US" sz="14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-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COMPORTAMENTI REGISTRATI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419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Reattività dei prezzi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990720"/>
          <a:ext cx="373392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90720"/>
                    <a:ext cx="373392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86000" y="175248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23623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096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12408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60" y="45648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lussi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demografici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6854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ff66"/>
                </a:solidFill>
                <a:latin typeface="Times New Roman"/>
              </a:rPr>
              <a:t>SETTORE NORD</a:t>
            </a:r>
            <a:r>
              <a:rPr b="0" lang="it-IT" sz="1600" spc="-1" strike="noStrike">
                <a:solidFill>
                  <a:srgbClr val="66ff66"/>
                </a:solidFill>
                <a:latin typeface="Times New Roman"/>
              </a:rPr>
              <a:t> - Curva cumulata delle var. demografiche</a:t>
            </a:r>
            <a:endParaRPr b="0" lang="en-US" sz="16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5760" y="495216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ETTORE EST - OVEST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360" y="5409000"/>
            <a:ext cx="363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Curve delle variazioni percentuali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dei prezzi immobiliari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della popolazione residente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49920" y="304776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66"/>
                </a:solidFill>
                <a:latin typeface="Times New Roman"/>
              </a:rPr>
              <a:t>MILANO         Fase di svuotamento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66"/>
                </a:solidFill>
                <a:latin typeface="Times New Roman"/>
              </a:rPr>
              <a:t>SETTORE NORD         Zona prossima a saturazione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66"/>
                </a:solidFill>
                <a:latin typeface="Times New Roman"/>
              </a:rPr>
              <a:t>SETTORE EST-OVEST       Zona in crescita moderata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66"/>
                </a:solidFill>
                <a:latin typeface="Times New Roman"/>
              </a:rPr>
              <a:t>SETTORE SUD         Zona in espansione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114800" y="990720"/>
          <a:ext cx="4648320" cy="205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990720"/>
                    <a:ext cx="46483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72000" y="2743200"/>
          <a:ext cx="3695760" cy="2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743200"/>
                    <a:ext cx="369576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5029920" y="274248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1</a:t>
            </a:r>
            <a:endParaRPr b="0" lang="en-US" sz="1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9240" y="274248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2</a:t>
            </a:r>
            <a:endParaRPr b="0" lang="en-US" sz="1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68200" y="274248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3</a:t>
            </a:r>
            <a:endParaRPr b="0" lang="en-US" sz="12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038480" y="4267080"/>
          <a:ext cx="4624560" cy="24433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4267080"/>
                    <a:ext cx="462456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191120" y="6248520"/>
          <a:ext cx="2962080" cy="39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6248520"/>
                    <a:ext cx="296208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037120" y="6171480"/>
            <a:ext cx="24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(Prezzi(t+1)-Prezzi(t))/Prezzi(t)]x10</a:t>
            </a:r>
            <a:endParaRPr b="0" lang="en-US" sz="1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35320" y="6400080"/>
            <a:ext cx="28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(Abitanti(t+1)-Abitanti(t))/Abitanti(t)]x100</a:t>
            </a:r>
            <a:endParaRPr b="0" lang="en-US" sz="1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276720"/>
            <a:ext cx="30456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505320"/>
            <a:ext cx="30492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3809880"/>
            <a:ext cx="30492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4038480"/>
            <a:ext cx="30492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600200" y="5257800"/>
          <a:ext cx="120960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257800"/>
                    <a:ext cx="12096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28600" y="133920"/>
            <a:ext cx="8610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IL SOFTWARE</a:t>
            </a:r>
            <a:endParaRPr b="0" lang="en-US" sz="32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370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Set di stati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1370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Scenario inizial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1370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Set di regol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1370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Intorno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818000"/>
            <a:ext cx="1371600" cy="178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o 1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o 2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….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o n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9051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362320"/>
            <a:ext cx="228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239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9040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tato n (t)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2286000"/>
            <a:ext cx="1295280" cy="914400"/>
          </a:xfrm>
          <a:prstGeom prst="flowChartDecision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2513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Intorno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8457840" y="2743200"/>
            <a:ext cx="22860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361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ì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2361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342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tato n (t+1)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2891520"/>
            <a:ext cx="1524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Frequenza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Probabilità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0377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tato m (t+1)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419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LGORITMO DI SCANSIONE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6850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GLI INGRESSI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5029200"/>
            <a:ext cx="1828800" cy="129528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981080"/>
            <a:ext cx="1371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62772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66ff6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 = s (N, V, C)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895480"/>
            <a:ext cx="1447920" cy="91440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76760" y="2743200"/>
            <a:ext cx="68580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77120" y="2742840"/>
            <a:ext cx="0" cy="1522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028120"/>
            <a:ext cx="182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Analisi cella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i-esima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[stato e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intorno al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tempo (t)]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3809880"/>
            <a:ext cx="0" cy="30492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055120"/>
            <a:ext cx="19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Ricerca regola compatibile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e verifica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condizioni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5715000"/>
            <a:ext cx="53352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715000"/>
            <a:ext cx="30492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2600" y="50281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Memoria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temporanea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dello stato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al tempo (t+1)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5029200"/>
            <a:ext cx="1600200" cy="137160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69520" y="5333040"/>
            <a:ext cx="114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Aggiorna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scenario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5181480"/>
            <a:ext cx="1219320" cy="99072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60948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1600200" y="5333760"/>
            <a:ext cx="457200" cy="533160"/>
          </a:xfrm>
          <a:custGeom>
            <a:avLst/>
            <a:gdLst>
              <a:gd name="textAreaLeft" fmla="*/ 131040 w 457200"/>
              <a:gd name="textAreaRight" fmla="*/ 391680 w 45720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5029200"/>
            <a:ext cx="2743200" cy="167652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828800" y="1828800"/>
          <a:ext cx="239724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828800"/>
                    <a:ext cx="239724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H="1">
            <a:off x="2895480" y="6629400"/>
            <a:ext cx="3353040" cy="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0" y="1828800"/>
          <a:ext cx="960480" cy="9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828800"/>
                    <a:ext cx="9604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819520"/>
          <a:ext cx="96516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819520"/>
                    <a:ext cx="96516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8686800" y="2743200"/>
            <a:ext cx="0" cy="68580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6400800"/>
            <a:ext cx="0" cy="22860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952880"/>
            <a:ext cx="7315200" cy="190512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72000" y="638532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imes New Roman"/>
              </a:rPr>
              <a:t>i=i+1</a:t>
            </a:r>
            <a:endParaRPr b="0" lang="en-US" sz="1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715000"/>
            <a:ext cx="30492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715000"/>
            <a:ext cx="15228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028840" y="6629400"/>
            <a:ext cx="22860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715000"/>
            <a:ext cx="15264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552720" y="2743200"/>
            <a:ext cx="22860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686800" y="2971800"/>
            <a:ext cx="0" cy="228600"/>
          </a:xfrm>
          <a:prstGeom prst="line">
            <a:avLst/>
          </a:prstGeom>
          <a:ln w="9360">
            <a:solidFill>
              <a:srgbClr val="66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3962520"/>
            <a:ext cx="0" cy="75960"/>
          </a:xfrm>
          <a:prstGeom prst="line">
            <a:avLst/>
          </a:prstGeom>
          <a:ln w="9360">
            <a:solidFill>
              <a:srgbClr val="66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-612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COSTRUZIONE DEL MODELLO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gli scenari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676520"/>
            <a:ext cx="1067040" cy="68580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533520"/>
            <a:ext cx="1447920" cy="609480"/>
          </a:xfrm>
          <a:prstGeom prst="flowChartInputOutpu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209680"/>
            <a:ext cx="1447920" cy="609840"/>
          </a:xfrm>
          <a:prstGeom prst="flowChartInputOutpu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6087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Abitanti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2284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Prezzi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1760" y="914400"/>
            <a:ext cx="259092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590920"/>
            <a:ext cx="259056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294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Dati quantitativi         3 classi qualitative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028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40377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34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647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-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373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333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-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714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- $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6019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- $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63237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- $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532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.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837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.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1333080"/>
            <a:ext cx="22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demo.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2056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$ 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2437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$ 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274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$ 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67544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Criterio : max numero transizioni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00800" y="533520"/>
          <a:ext cx="5763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533520"/>
                    <a:ext cx="5763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400800" y="2057400"/>
          <a:ext cx="57636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57636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04920" y="3733920"/>
          <a:ext cx="4572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733920"/>
                    <a:ext cx="4572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724280" y="533520"/>
          <a:ext cx="1524240" cy="122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533520"/>
                    <a:ext cx="152424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724280" y="1905120"/>
          <a:ext cx="1524240" cy="122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1905120"/>
                    <a:ext cx="152424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52280" y="457200"/>
            <a:ext cx="8763120" cy="274320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019920" y="4343400"/>
          <a:ext cx="2819160" cy="230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343400"/>
                    <a:ext cx="281916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400800" y="1676520"/>
          <a:ext cx="57168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1676520"/>
                    <a:ext cx="571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008120" y="1599480"/>
            <a:ext cx="1703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omuni privi di 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informazione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1447920"/>
            <a:ext cx="38088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920" y="3429000"/>
          <a:ext cx="45720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920" y="3429000"/>
                    <a:ext cx="4572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85800" y="3428280"/>
            <a:ext cx="1752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Assenza di da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048120" y="4329000"/>
          <a:ext cx="2819160" cy="230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48120" y="4329000"/>
                    <a:ext cx="281916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3272400" y="3656520"/>
            <a:ext cx="21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9 classi qualitative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3504240"/>
            <a:ext cx="29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Criterio: classe presente in 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percentuale maggiore</a:t>
            </a:r>
            <a:endParaRPr b="0" lang="en-US" sz="20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3352680"/>
            <a:ext cx="8839440" cy="335304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31240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-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COSTRUZIONE DEL MODELLO: </a:t>
            </a: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set di stati e intorno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361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 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26661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-$ 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047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- $ 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428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rescita demo - $ 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373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-$ 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4114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- $ 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44190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Forte crescita - $  alt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675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 bass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980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alo demo - $ med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8762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ID espansione [sud]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5180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ID crescita moderata [est-ovest]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485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ID prossima a saturazione [nord]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790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Set di stati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594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Milano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793080"/>
            <a:ext cx="4267080" cy="87696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Intorno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max 5 livelli per coprire i settori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28600" y="1219320"/>
          <a:ext cx="5716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571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28600" y="1676520"/>
          <a:ext cx="565200" cy="31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56520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28600" y="4876920"/>
          <a:ext cx="57636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876920"/>
                    <a:ext cx="576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2280" y="762120"/>
            <a:ext cx="4038840" cy="594360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28600" y="6324480"/>
          <a:ext cx="53352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6324480"/>
                    <a:ext cx="5335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837360" y="6323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Contatore</a:t>
            </a:r>
            <a:endParaRPr b="0" lang="en-US" sz="1800" spc="-1" strike="noStrike">
              <a:solidFill>
                <a:srgbClr val="66ff66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419720" y="1905120"/>
          <a:ext cx="4209840" cy="351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1905120"/>
                    <a:ext cx="420984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COSTRUZIONE DEL MODELLO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66ff66"/>
                </a:solidFill>
                <a:latin typeface="Times New Roman"/>
              </a:rPr>
              <a:t>set di regol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corrispondenza : set di regole </a:t>
            </a:r>
            <a:r>
              <a:rPr b="0" lang="en-US" sz="2400" spc="-1" strike="noStrike">
                <a:solidFill>
                  <a:srgbClr val="66ff66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tipo di espansione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passaggi di stato graduali 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crescita demografica </a:t>
            </a:r>
            <a:r>
              <a:rPr b="0" lang="en-US" sz="2400" spc="-1" strike="noStrike">
                <a:solidFill>
                  <a:srgbClr val="66ff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aumento dei prezzi 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76104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CRITERI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in base ai quali sono costruite le regole :</a:t>
            </a:r>
            <a:endParaRPr b="0" lang="en-US" sz="2400" spc="-1" strike="noStrike">
              <a:solidFill>
                <a:srgbClr val="66ff66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534520" cy="27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7772400" y="4419720"/>
          <a:ext cx="888840" cy="88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4419720"/>
                    <a:ext cx="888840" cy="885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07080" y="312336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SEMPIO</a:t>
            </a:r>
            <a:endParaRPr b="0" lang="en-US" sz="2800" spc="-1" strike="noStrike">
              <a:solidFill>
                <a:srgbClr val="66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07:40:15Z</dcterms:created>
  <dc:creator>Raffaella</dc:creator>
  <dc:description/>
  <dc:language>en-US</dc:language>
  <cp:lastModifiedBy>II vostro nome</cp:lastModifiedBy>
  <dcterms:modified xsi:type="dcterms:W3CDTF">2000-06-07T13:02:10Z</dcterms:modified>
  <cp:revision>131</cp:revision>
  <dc:subject/>
  <dc:title>Presentazione di PowerPoint</dc:title>
</cp:coreProperties>
</file>